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69837"/>
        <c:axId val="5303178"/>
      </c:barChart>
      <c:catAx>
        <c:axId val="73769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3178"/>
        <c:crosses val="autoZero"/>
        <c:auto val="1"/>
        <c:lblAlgn val="ctr"/>
        <c:lblOffset val="100"/>
        <c:noMultiLvlLbl val="0"/>
      </c:catAx>
      <c:valAx>
        <c:axId val="5303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69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2D0-ACAF-4C4A-96C6-EC39D21C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8FE-F5FD-4303-B56E-35EC2EC2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F73-44A3-4FF5-B757-C34F02E7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766-7E66-4C37-8F80-CA662E7C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6E9-F85D-4ED1-954B-F6F4481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F62-7034-4EA4-8C61-70F5F91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9E1-4E1B-4C3C-9607-7B527162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824-7A22-4D7D-8E3F-9769DC7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85D-137B-450A-BEDC-AA54DC4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23A4-659E-43B6-BB4F-1555D8A3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67C-C3E6-4465-B3E1-EFDCFE60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482-4063-47C7-A8D8-AF5737A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95CF6-F359-489C-9BAB-1CCCE4DC2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