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45713"/>
        <c:axId val="24187361"/>
      </c:barChart>
      <c:catAx>
        <c:axId val="542457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87361"/>
        <c:crosses val="autoZero"/>
        <c:auto val="1"/>
        <c:lblAlgn val="ctr"/>
        <c:lblOffset val="100"/>
        <c:noMultiLvlLbl val="0"/>
      </c:catAx>
      <c:valAx>
        <c:axId val="24187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457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A63-F7E7-4896-9518-2CE6AA7D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0A14-04BF-4876-BE8E-20B39DE7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594-4570-4EFB-80E6-59CDF8B4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915-808B-4DE8-BD4C-D220C226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3FE-8705-4469-BC73-30234408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B3AE-CA84-4EC0-81CC-18C202FB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4A28-49CD-4CD0-983E-D8C6322A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09F-F224-4D45-9231-68398B60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4D0-5B7A-411E-A4A2-09FE84D9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E6A7-750D-43C3-8793-0D1A797D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ACC-748E-4077-9A1C-D07DA9A2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EA1-C00C-447B-BE6A-C297A49A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0B7A2-33A8-45E0-8850-E128F1D76E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