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146411"/>
        <c:axId val="84742542"/>
      </c:barChart>
      <c:catAx>
        <c:axId val="921464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742542"/>
        <c:crosses val="autoZero"/>
        <c:auto val="1"/>
        <c:lblAlgn val="ctr"/>
        <c:lblOffset val="100"/>
        <c:noMultiLvlLbl val="0"/>
      </c:catAx>
      <c:valAx>
        <c:axId val="847425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1464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0D1B-D267-47FC-90A8-0F1B4CD7D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2DFD-53EE-47B0-ADD3-6A9B876E6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FEF1-ED02-4A11-9FA7-34ABB2BE6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0D76-037A-42A6-B40E-4843BF785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1DD6-EDA4-4903-BAB7-ED0C3CDFC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F80C-83C1-47A3-B45D-840B6C7B2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C2A0-81E5-4184-A65A-1FCD6D26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6266-7AB5-4DEF-82FE-C40C4BF57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FB47-0A37-44E6-A3E3-96DEB69CF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FC73-39E2-4424-B5C9-5BCA5A22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EB92-28F9-4D23-831A-4E91BE77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7A10-D89F-4915-8579-E623260E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49F4B9-702B-4C2C-9FD4-B01F02C01AF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