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830506"/>
        <c:axId val="24691304"/>
      </c:barChart>
      <c:catAx>
        <c:axId val="483050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691304"/>
        <c:crosses val="autoZero"/>
        <c:auto val="1"/>
        <c:lblAlgn val="ctr"/>
        <c:lblOffset val="100"/>
        <c:noMultiLvlLbl val="0"/>
      </c:catAx>
      <c:valAx>
        <c:axId val="2469130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3050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EE1F-A399-43C9-92F7-4289635EF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1593-36A5-434F-89C8-BE2C60CD3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B502-B80F-4D40-9B0D-AE2FE3D03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A178-589D-4C59-A6CE-262338B0B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F732-7BC9-48BD-89D2-C332BFB1C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6337-8D98-4673-A001-69CC80743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4E72-1774-43E9-8E6B-67FC30ABB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E66A-08F4-47F1-B0F6-2E6D297FF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E788-204D-46F9-8FA3-295660F35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D7A6-BC99-404F-A337-BA2CC4134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DE9A-8756-43AB-957F-B4FD14C08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0495-3618-477F-B414-7CD7F7DC0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946952-B90C-4A43-9187-4D62836320E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