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1666"/>
        <c:axId val="81757603"/>
      </c:barChart>
      <c:catAx>
        <c:axId val="72661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7603"/>
        <c:crosses val="autoZero"/>
        <c:auto val="1"/>
        <c:lblAlgn val="ctr"/>
        <c:lblOffset val="100"/>
        <c:noMultiLvlLbl val="0"/>
      </c:catAx>
      <c:valAx>
        <c:axId val="81757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1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587-BFC2-4011-B68B-7FF807A9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261-B28E-44E3-B02F-A239FE3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F0C-2045-4EE5-8804-A4775CF5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9DF-612E-4DBC-95A0-C0A214BA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938-6592-4D9A-A0D7-2378AE9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F92-979E-4E38-8123-41410FFA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D75-42C3-460F-BA13-DC66042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19C-4460-4104-B787-031DE4B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8C1-2AA1-4E9C-B233-E61124C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F5C-DB01-4BEF-AAAB-24417A5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AFC-EA84-4B6D-B13D-D2F6590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116-D0CB-4609-957F-6B1C3DB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D761F-7F66-4E7D-BB30-96161EB38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