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00384"/>
        <c:axId val="20606679"/>
      </c:barChart>
      <c:catAx>
        <c:axId val="86200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06679"/>
        <c:crosses val="autoZero"/>
        <c:auto val="1"/>
        <c:lblAlgn val="ctr"/>
        <c:lblOffset val="100"/>
        <c:noMultiLvlLbl val="0"/>
      </c:catAx>
      <c:valAx>
        <c:axId val="20606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00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C01-B9B1-4C7E-89F5-01CD4519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D00-569E-441B-BF23-58C7C697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28F-842F-4051-9DBD-7AA40CE5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E6F-0BDB-4B4F-9559-9976B82F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0EE-661B-4D7F-A790-39A918EE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9AC-997A-407D-87E8-CBE3118F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D4D-E7FA-4040-A10E-31437AA8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E3F-48E2-4E06-844F-0F375E79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924-9208-42D2-8240-A0FDC502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BFE-F91E-4ED8-A801-9ACE94F1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B40-5DDF-4916-8C4B-667AEDDA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674-65A9-4933-AEBC-AF4A04D5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3CCF5-B864-428A-92F2-A684AF4ABC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