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30280"/>
        <c:axId val="71638750"/>
      </c:barChart>
      <c:catAx>
        <c:axId val="78630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38750"/>
        <c:crosses val="autoZero"/>
        <c:auto val="1"/>
        <c:lblAlgn val="ctr"/>
        <c:lblOffset val="100"/>
        <c:noMultiLvlLbl val="0"/>
      </c:catAx>
      <c:valAx>
        <c:axId val="71638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0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EA9-9190-4D77-99D7-FB9EC5BE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0D9-2BB6-4B76-9A4F-9A0EA0BE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1DE-3462-49DF-8EFB-72977671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A8C-9C84-431C-B22D-9EC138B4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60E-04EA-4E99-9315-934D949F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BE5-A67A-4A84-A07A-D3589853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53A-D4F6-42BA-BF91-F0B5EAE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A74-C284-4CEF-A8F1-CAFEB0A7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C03-3270-4D30-9C17-CB3A068D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3E1-3487-4F4F-8D61-66E1257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406-7EE4-4889-A0DF-BEBEC245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920-0C79-48E6-9818-2F7FA2B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4C885-FE2F-41B7-891B-F2892E8D82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