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87630"/>
        <c:axId val="8489240"/>
      </c:barChart>
      <c:catAx>
        <c:axId val="24687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9240"/>
        <c:crosses val="autoZero"/>
        <c:auto val="1"/>
        <c:lblAlgn val="ctr"/>
        <c:lblOffset val="100"/>
        <c:noMultiLvlLbl val="0"/>
      </c:catAx>
      <c:valAx>
        <c:axId val="84892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87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9E6-87D8-48B9-9DF5-D919A76A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3F0-82AD-42BC-874A-53707A4F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543-D648-41D9-93EF-86D7742A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0839-2DE6-446C-AC25-62055CFF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D2EB-7FDB-48E7-AD1B-3A095CE4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7E4-1FD8-4B9E-B6DD-7A0F50D6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730-FD0A-4C66-8327-5336111D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153-CBF6-4F93-8EB2-AEF5AD13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B42-BC28-41E8-BB05-1F92EFBE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EBB-A67F-44CF-93B4-FDDC8CCB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7B1-FF1A-4C61-9888-E57134F6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FD34-BC62-43F9-B0F5-7023B6AF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6A3F6-4A89-490E-810D-33E8BCCCF6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