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461"/>
        <c:axId val="6816624"/>
      </c:barChart>
      <c:catAx>
        <c:axId val="402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6624"/>
        <c:crosses val="autoZero"/>
        <c:auto val="1"/>
        <c:lblAlgn val="ctr"/>
        <c:lblOffset val="100"/>
        <c:noMultiLvlLbl val="0"/>
      </c:catAx>
      <c:valAx>
        <c:axId val="6816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996-58BC-4E92-BDC8-6114B57B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5A0-A573-4524-B30F-2A74EEA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808-9CAE-4E80-82A9-610D6E61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FAA-451B-44F8-BF56-6FC409C4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1E3-6730-46AD-A7AD-2B31CDA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5DA-B63C-4546-BA4A-32E89838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086-3162-4AA9-AA30-7BBD372A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FDB-C586-4275-B11F-EF7EF93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DE0-0736-4A5A-8D00-9A343CB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4CC-A968-4586-A1F5-857A6956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C09-0285-4797-AB48-BA95E0A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B0A-4C28-4946-9516-CD64CEED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38FE6-932B-4F2F-88DB-4887EF95E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