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8728"/>
        <c:axId val="28969051"/>
      </c:barChart>
      <c:catAx>
        <c:axId val="1487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969051"/>
        <c:crosses val="autoZero"/>
        <c:auto val="1"/>
        <c:lblAlgn val="ctr"/>
        <c:lblOffset val="100"/>
        <c:noMultiLvlLbl val="0"/>
      </c:catAx>
      <c:valAx>
        <c:axId val="289690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87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09EA-94E0-4B5E-B381-464C9DFC2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FBB0-1E65-4D03-ABAD-D24F821A3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CFEC-56A9-4763-9324-FE463FE2B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ED02-5367-47B8-8FC9-E64F98595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5418-585B-41E5-8688-52B18CA7E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6A45-0D51-4C77-AFD2-03A454649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20C7-4BD5-4207-8CA1-8349CAA2D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C9F7-A662-4EE9-997B-3CED27F73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3372-BA96-44D2-8733-C9C3181C8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323E-40AB-4174-AE17-D15962FF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541E-687B-40A5-B874-A595B3FF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8A8D-6B89-4E76-B67F-6104F9E3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A6E995-B9BF-4970-B2F5-92C03ED6F29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