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260467"/>
        <c:axId val="11263445"/>
      </c:barChart>
      <c:catAx>
        <c:axId val="892604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63445"/>
        <c:crosses val="autoZero"/>
        <c:auto val="1"/>
        <c:lblAlgn val="ctr"/>
        <c:lblOffset val="100"/>
        <c:noMultiLvlLbl val="0"/>
      </c:catAx>
      <c:valAx>
        <c:axId val="112634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604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2E83-5466-4A74-95C6-C8C396031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0C4E-ED80-4515-BD44-B7DED41E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BC5D-9BA4-412C-80AD-B4C3D3F2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EC50-A5C3-4AA2-9E39-98AFD121C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0BA4-E636-441A-8E6F-0CEDD01B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325E-1B01-46FC-9F40-4FD31A04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E5A4-99A6-4CC7-9AB9-3F94BBE5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E795-E859-4E4F-B7CF-EE0E561D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F682-3478-4859-835D-39F05AA8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E293-2DF4-475B-9DA3-E0E28F94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9097-D74E-469E-B136-0073C12A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31F0-BCE4-43CC-845F-4133049F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82FD74-D88A-48E4-80B9-18FC44563A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