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63050"/>
        <c:axId val="48977173"/>
      </c:barChart>
      <c:catAx>
        <c:axId val="93263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77173"/>
        <c:crosses val="autoZero"/>
        <c:auto val="1"/>
        <c:lblAlgn val="ctr"/>
        <c:lblOffset val="100"/>
        <c:noMultiLvlLbl val="0"/>
      </c:catAx>
      <c:valAx>
        <c:axId val="48977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63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670-F04E-4868-93C1-A1F2FF47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B2D-2E77-4B48-B2A8-8BE83820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DFA-0779-4758-8B9D-E26FBE61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250-6669-48AF-8320-6C72E194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040-ABED-4049-A53A-970F6EA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591-8BA0-4DF1-A995-71D16F7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E86-CD36-4ABA-89C2-155A60CB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449-BD7C-41ED-AE8A-15195E80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0FB-391B-4193-8322-625AD44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8BC-D26C-4FE4-8BD3-66749862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ED4-CAB7-4F32-A74C-C97E1C5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50D-7D2B-4671-93A2-C1D8F1D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10A35-344C-4D7C-B149-E9216C0C51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