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0007"/>
        <c:axId val="43323427"/>
      </c:barChart>
      <c:catAx>
        <c:axId val="6750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3427"/>
        <c:crosses val="autoZero"/>
        <c:auto val="1"/>
        <c:lblAlgn val="ctr"/>
        <c:lblOffset val="100"/>
        <c:noMultiLvlLbl val="0"/>
      </c:catAx>
      <c:valAx>
        <c:axId val="4332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0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EB1-065A-4B84-B322-673C6A79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69B-4CF9-4B70-B4F3-A1674298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65E-ECF4-4340-B62D-0ECD0E25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EFE-159F-4859-9344-974410A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04E-25BC-44C3-AA22-EEB442FB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59C-6A1A-4E42-99F9-21DB61EC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E49-A81D-4A40-94C3-CF626D7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D67-68B8-49BE-9067-ABD2067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5D2-E6F1-473E-8B1B-ECD726F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6C1-1092-45FF-AF9B-DB80E7D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14F-BAFC-406C-B0F5-869083C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661-BFF4-4FEA-A66F-AE138DB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7886-8967-4D00-8B0F-8AF230064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