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52089"/>
        <c:axId val="40737423"/>
      </c:barChart>
      <c:catAx>
        <c:axId val="20552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37423"/>
        <c:crosses val="autoZero"/>
        <c:auto val="1"/>
        <c:lblAlgn val="ctr"/>
        <c:lblOffset val="100"/>
        <c:noMultiLvlLbl val="0"/>
      </c:catAx>
      <c:valAx>
        <c:axId val="40737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52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F8E-48E6-4581-A72B-A8CEBCAA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DA80-5838-467B-8831-307EF509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368-3856-4F97-A0C1-29F9A4F5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B75-DA4F-4E09-8EFD-695F4E54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802-4EDF-4F90-AD08-53A4ACC0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15B-96C6-4EE8-902A-5699C9BD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9E4-76F8-49F5-AF21-B2A536C5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5CF-074B-44FC-9B98-DF4A35C0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CD1-E757-422C-B6B5-076B5476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BE1-6ECD-4F7F-8578-ADEBDB7D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7EB-5034-4234-A2BC-1BFEA8B4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B1A-152D-4412-A81F-C0DFAD4F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2A395-A794-4AB3-8ACB-3312087E96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