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5300"/>
        <c:axId val="3917168"/>
      </c:barChart>
      <c:catAx>
        <c:axId val="5535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7168"/>
        <c:crosses val="autoZero"/>
        <c:auto val="1"/>
        <c:lblAlgn val="ctr"/>
        <c:lblOffset val="100"/>
        <c:noMultiLvlLbl val="0"/>
      </c:catAx>
      <c:valAx>
        <c:axId val="3917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5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2AC-754E-4B74-8829-4DEC67CF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4EB-B169-4CAE-A5D8-C189C0AC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D4C-C101-4667-9A1E-B31195DF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A22-FBFE-4F21-B5F6-EEAF8D0B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045-4081-48F8-B684-A2FC6590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E11-4A17-4BE8-A429-647A3AE0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9A4-B2E7-42E2-B25E-B601FDBB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910-2089-4F16-8342-AD39B4F7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2B1-FC77-4765-9343-E9D9BA6D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3BD-DA0C-44FF-A62F-882F208D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D48-7BB0-42A8-A465-48089BC4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B79-F821-41A2-8789-5531B768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75111-97F4-4D7F-99C7-FA7ADB60F9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