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645883"/>
        <c:axId val="1199013"/>
      </c:barChart>
      <c:catAx>
        <c:axId val="446458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9013"/>
        <c:crosses val="autoZero"/>
        <c:auto val="1"/>
        <c:lblAlgn val="ctr"/>
        <c:lblOffset val="100"/>
        <c:noMultiLvlLbl val="0"/>
      </c:catAx>
      <c:valAx>
        <c:axId val="11990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458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69A9-6C01-418F-A7B0-06FB3F5B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5BF3-2383-4DEC-AAA3-E632BA57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8B18-8DF8-4117-B3CC-48FE92EB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37A5-4F9E-4818-B0D9-302FC330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61D1-8C4E-4C14-8FBF-E7270759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624B-FF26-43EF-BCC7-7C3AC710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A7CF-A0FF-45AB-BC8E-C44039F5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BEF9-C6AF-4203-AB3E-E4C14889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9226-49D6-4988-8E13-B55EF4B6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8A99-0517-4621-8D2E-345473B7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1D48-F8C0-4435-B7C0-2509E72A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AAD3-195C-4347-ADEE-3FBD32FE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2A47F-F2C5-4DA3-9F56-EF45B9F2C6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