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64806"/>
        <c:axId val="56281514"/>
      </c:barChart>
      <c:catAx>
        <c:axId val="29664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81514"/>
        <c:crosses val="autoZero"/>
        <c:auto val="1"/>
        <c:lblAlgn val="ctr"/>
        <c:lblOffset val="100"/>
        <c:noMultiLvlLbl val="0"/>
      </c:catAx>
      <c:valAx>
        <c:axId val="56281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64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CDC6-9536-45B8-BDA0-69A82F98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AC8-3DB0-4F03-AEBE-F511CA73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FA0-74AB-4358-9BE9-085750E7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BA61-1DBE-4CC8-934C-C23B3B58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8DE1-7661-446F-9B81-80E20B24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1EBE-3D42-4439-A8D5-D65C38DC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E158-22DA-4F98-B6E0-D9585994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014-032E-4A37-BE61-F58FE17C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CB46-2762-4585-BB82-E990B4BC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E36-7F35-4ACD-9038-FAE5C4B8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AE98-A227-44AA-9FAF-F5543D73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544A-E2AE-49E0-8483-7FA18528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2B5F9-58CE-4628-85D0-33E2438204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