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01535"/>
        <c:axId val="30916676"/>
      </c:barChart>
      <c:catAx>
        <c:axId val="67801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6676"/>
        <c:crosses val="autoZero"/>
        <c:auto val="1"/>
        <c:lblAlgn val="ctr"/>
        <c:lblOffset val="100"/>
        <c:noMultiLvlLbl val="0"/>
      </c:catAx>
      <c:valAx>
        <c:axId val="30916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1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0D0-5AD8-4CA6-AD90-EFCCA7EC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B2F-713F-4B75-9194-45B0C2E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251-D7C9-4BC9-B6BF-4BE113D5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639-4FDC-400B-A685-CC0EB91E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6E7-4234-4592-9B8D-86812639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08B-4D93-4841-9A5B-C4D19CF8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19A-7085-4486-B9DA-4C5E2EC0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787-21B7-4249-86B4-6AE5BE49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F1C-9396-4929-B2CA-50DEBAC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4BB-4AC4-4BD6-B099-055DC81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307-01BA-4198-9772-7B184C8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250-94E6-414D-A7CD-8E7A96D0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51E1E-65C8-4F8D-BC82-10C8325BD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