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76074"/>
        <c:axId val="22006752"/>
      </c:barChart>
      <c:catAx>
        <c:axId val="26876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6752"/>
        <c:crosses val="autoZero"/>
        <c:auto val="1"/>
        <c:lblAlgn val="ctr"/>
        <c:lblOffset val="100"/>
        <c:noMultiLvlLbl val="0"/>
      </c:catAx>
      <c:valAx>
        <c:axId val="22006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76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711-F605-437F-A024-5977A119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FE5-6A29-490A-A02E-43E0671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3FA-CC16-4D48-91EE-30944BB7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69C-E36F-47EF-9DC7-D21A0C52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D42-FDB1-470C-BFC6-5502CABB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768-5B33-4416-8C42-6F6185A5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574-83FE-43D1-9B93-468249A5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124-F3B2-43CB-9EFC-14384165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841-1CC6-41D4-9EF0-FE6EC69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8B2-C303-4A16-B23F-9423F68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03F-B7D0-4618-B0AD-7191397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AE9-B3EF-4447-9B5D-2E2A0E64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2ECEA-95FE-4151-B671-2DAD57C6EE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