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36846"/>
        <c:axId val="49905541"/>
      </c:barChart>
      <c:catAx>
        <c:axId val="85536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5541"/>
        <c:crosses val="autoZero"/>
        <c:auto val="1"/>
        <c:lblAlgn val="ctr"/>
        <c:lblOffset val="100"/>
        <c:noMultiLvlLbl val="0"/>
      </c:catAx>
      <c:valAx>
        <c:axId val="49905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36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384-6439-42CA-AC82-0AD4C7B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FF6-ED23-48F1-B436-6C6AF81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E34-67C8-44C8-9C59-A7A59714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EFF-540C-4C22-B79D-5890E53F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A59-2256-4EB3-8CAA-676BDCB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D4B-D943-4E22-AD7F-C6A9702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FE9-1EE3-42F0-B9B4-E4F5EDF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4A3-5323-46B4-A17B-A8C3902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24C-F2B8-4066-B8BE-0AB54F43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0FF-1AA7-45C2-A930-4CD82F4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056-B712-4CBF-A157-D67544B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981-2698-4342-B053-998B393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B3E35-5914-43C0-AC81-D26D6AC2A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