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87866"/>
        <c:axId val="20682833"/>
      </c:barChart>
      <c:catAx>
        <c:axId val="83087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2833"/>
        <c:crosses val="autoZero"/>
        <c:auto val="1"/>
        <c:lblAlgn val="ctr"/>
        <c:lblOffset val="100"/>
        <c:noMultiLvlLbl val="0"/>
      </c:catAx>
      <c:valAx>
        <c:axId val="20682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87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900-4F58-4595-8ED0-1857554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933-5476-4C64-A568-6B0BA4E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75B-5AF3-437C-862B-1CE86AD2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C73-30F7-4ADF-9F8C-DB3C6FFC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7D1-29DD-404E-85D0-9E34EEE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0E8-C3DD-482A-AB5A-C96D2AD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54D-430C-48A7-B25B-09151F70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6C8-A0A4-4FB6-BC63-9EE1D769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D07-5093-4CAF-8DA2-693EED22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991-4E6C-40D7-8BCA-AAB48DA8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4E1-1154-41B7-A145-AA57A4F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CFE-163B-4DA9-9D73-B6A6B2A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84D20-3A2A-4C64-91F9-8A00B32B82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