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2206472"/>
        <c:axId val="13568850"/>
      </c:barChart>
      <c:catAx>
        <c:axId val="9220647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568850"/>
        <c:crosses val="autoZero"/>
        <c:auto val="1"/>
        <c:lblAlgn val="ctr"/>
        <c:lblOffset val="100"/>
        <c:noMultiLvlLbl val="0"/>
      </c:catAx>
      <c:valAx>
        <c:axId val="1356885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20647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50100-B3A7-4E89-8657-1FE4F371D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EA818-8D9E-471B-9B98-C6EE0F561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5BE8C-FA91-4F96-8A50-614417484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CF580-6A1C-4688-93F1-2F5F7662E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A9DF3-DE6F-402C-923D-0AA82CA6A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FEA5C-B2B3-496B-9272-D42D31159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C9BBF-6DC3-4186-9D0E-050E173D8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B1B79-FF6C-4532-A2F4-76E71F548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BB8C8-7D0E-44EF-992D-83650E158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833EB-0CF4-4B07-B16E-0A1DEF7D3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E87EA-B843-4958-81B4-E3C861A5F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3349D-E8C2-4E45-88E5-C6FF7CF39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FFA184-D265-4225-B244-D41418E9AB3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