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691407"/>
        <c:axId val="10652737"/>
      </c:barChart>
      <c:catAx>
        <c:axId val="696914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652737"/>
        <c:crosses val="autoZero"/>
        <c:auto val="1"/>
        <c:lblAlgn val="ctr"/>
        <c:lblOffset val="100"/>
        <c:noMultiLvlLbl val="0"/>
      </c:catAx>
      <c:valAx>
        <c:axId val="106527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6914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CD03-8369-40DA-9C7D-1D3FA3D7C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6759-2F24-43D8-BDE1-3BB6141C1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F1A6-3D58-45D3-AE41-2974A21F7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FCBA-07AB-49EC-8F77-1AA026964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579B-2B26-40EC-977B-EFBCD414A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2F14-9B4A-4FAA-89C6-70D24D205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6C34-978B-4B6A-9645-DC95A9F1D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D9F0-452D-43B5-B4DD-03D43AF1A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93F6-EDCD-4D3B-9689-7B150B827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7863-AC13-489D-850A-BE2CBF7BF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FFB3-51EB-4C9C-B563-CA4989035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ABDB-04F9-4DDC-9D05-F7E8DB44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C98F16-4D89-4E73-A0E7-2E9AD967955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