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81995"/>
        <c:axId val="49102280"/>
      </c:barChart>
      <c:catAx>
        <c:axId val="15381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02280"/>
        <c:crosses val="autoZero"/>
        <c:auto val="1"/>
        <c:lblAlgn val="ctr"/>
        <c:lblOffset val="100"/>
        <c:noMultiLvlLbl val="0"/>
      </c:catAx>
      <c:valAx>
        <c:axId val="49102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81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003-43FD-4CA1-B8EB-930B23D0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12F-3266-41F0-A185-FEB9F3B5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D36-8250-41C2-A4AF-733C8EC5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ADF-FDA0-4583-88C0-EC58859C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1E6-6534-4761-B3F2-F8AA8099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D87-ADA5-4C23-845D-F6E91D5F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FE0-56A2-4407-BED1-F3D4098B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5A3-16AA-4E04-A0D4-8F265225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76D-11EB-4D98-B5C1-BEC5A09A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B3A-4063-496E-BE73-8774E285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45E-3376-49D8-B4DA-6D6C5C81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87D-5B30-428F-AD5A-DF6140F1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49CA7-A715-41CB-AB66-4EE4CCAAD9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