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52203"/>
        <c:axId val="41494510"/>
      </c:barChart>
      <c:catAx>
        <c:axId val="36452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4510"/>
        <c:crosses val="autoZero"/>
        <c:auto val="1"/>
        <c:lblAlgn val="ctr"/>
        <c:lblOffset val="100"/>
        <c:noMultiLvlLbl val="0"/>
      </c:catAx>
      <c:valAx>
        <c:axId val="41494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2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E9C-DF9E-4B11-A26E-5A6FC435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484-D924-4996-8D99-BB1CD914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30A-0D86-4101-A73E-D7EB4F71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6D2-3E66-46C2-8C17-3275DCA2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A0B-FEBC-4F6A-ADC9-D1C73C34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F28-723F-4073-B1AD-8D49D36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86C-E496-4954-B538-823167EC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4D4-A96A-4FEC-97EF-E248235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164-FC40-4B37-8BED-351386AB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F47-B5CC-4480-B191-7B4DCD6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6EF-231F-429D-99D4-9B261D0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74A-AC13-405F-80E8-4D36A24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D63E-E223-4E3C-9EBC-B7D2F497A1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