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25626"/>
        <c:axId val="10735326"/>
      </c:barChart>
      <c:catAx>
        <c:axId val="20925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5326"/>
        <c:crosses val="autoZero"/>
        <c:auto val="1"/>
        <c:lblAlgn val="ctr"/>
        <c:lblOffset val="100"/>
        <c:noMultiLvlLbl val="0"/>
      </c:catAx>
      <c:valAx>
        <c:axId val="10735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5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CCA-B5FE-4987-A1D2-FB455011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31F-CCCB-46A7-A06B-D255474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64F-CFF4-4B4A-A72E-F4505900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4B1-24CB-47D0-A6CC-7018BC89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D99-41B9-4827-901D-2FA0767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E1D-20E0-443B-A489-B3D1E3E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C30-48BF-49DC-BB43-C723808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682-939C-448A-AB35-ACAA911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FB1-B5E3-4F4B-9139-89944AD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55D-5124-4B30-AF0D-7C9E847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A66-AABA-4DC2-888A-2AFD5D6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90C-6E9C-4FEC-A2B3-341F37E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0EB72-3082-4AA7-9702-86431B1E1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