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476"/>
        <c:axId val="57341933"/>
      </c:barChart>
      <c:catAx>
        <c:axId val="854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41933"/>
        <c:crosses val="autoZero"/>
        <c:auto val="1"/>
        <c:lblAlgn val="ctr"/>
        <c:lblOffset val="100"/>
        <c:noMultiLvlLbl val="0"/>
      </c:catAx>
      <c:valAx>
        <c:axId val="57341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A10-7666-4970-8D71-E3EDDC07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2C2-A96A-42ED-9604-CDF00D3A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04C-54F9-456A-BA94-02B366DF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A0B-B166-4360-BF6F-8B5B5AB6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032-3761-4EED-8F8A-389B1AD3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488-E828-44DC-B90B-4BA512DE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278-755F-4C9D-8BCD-8751FC4E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FD7-C62A-4458-8136-093B4E35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0EE-CF6E-457E-AE58-BC2C0BFA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CD7-FB47-49D5-8FF3-E224541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265-9D28-408C-828C-6D5C8494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CC9-F359-4AB8-9FE1-9651F167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43B8A-8195-4EF0-A94F-B449AFE2E2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