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88933"/>
        <c:axId val="26271386"/>
      </c:barChart>
      <c:catAx>
        <c:axId val="77788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1386"/>
        <c:crosses val="autoZero"/>
        <c:auto val="1"/>
        <c:lblAlgn val="ctr"/>
        <c:lblOffset val="100"/>
        <c:noMultiLvlLbl val="0"/>
      </c:catAx>
      <c:valAx>
        <c:axId val="26271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8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E52-2BFF-4FBB-8918-04CB2B2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B44-5D44-49FA-846A-6916CB48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1BA-6D6C-44A4-937E-9FD8E02F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97E-362B-4424-97EF-DC8558F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686-6A69-44C0-9CBF-987C7B7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A19-A920-415D-BDE3-E85A9F1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8A3-0291-4E8E-9CF3-FD8CB7D5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D57-8E1F-4FA8-BADA-F560D3A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588-7698-40BD-B373-FEF6BE30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CD3-102A-475F-9847-555EBB5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029-17BE-427F-8493-305BAA29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55A-2D29-4E72-8387-10C7E52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A0245-98D2-449B-9416-46F7258E8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