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76547"/>
        <c:axId val="85922611"/>
      </c:barChart>
      <c:catAx>
        <c:axId val="89476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22611"/>
        <c:crosses val="autoZero"/>
        <c:auto val="1"/>
        <c:lblAlgn val="ctr"/>
        <c:lblOffset val="100"/>
        <c:noMultiLvlLbl val="0"/>
      </c:catAx>
      <c:valAx>
        <c:axId val="85922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6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863-1238-42D6-879E-65C2BBDB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9EB-22F6-4112-9343-7FB7FEA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5EA-5786-45F5-B68B-B455B54B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D9A-25B1-4771-93CA-DD620BF6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DE8-F958-4B28-9BB4-4931329A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12E-5F76-4D1B-BFD5-B95A5374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F2B-CFF1-4592-A596-04AF3AD2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66C-DEFC-4AA1-B300-50852A75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911-5B53-4031-B80D-314EDCBC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0F5-E3B2-4873-8009-05F0E54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C82-66BD-4883-AD2D-7EAC6FDD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2E2-0B81-4BF3-BD38-68E60DC4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0B5C8-71DE-426E-9FE5-706B7483FD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