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15039"/>
        <c:axId val="19442226"/>
      </c:barChart>
      <c:catAx>
        <c:axId val="90415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42226"/>
        <c:crosses val="autoZero"/>
        <c:auto val="1"/>
        <c:lblAlgn val="ctr"/>
        <c:lblOffset val="100"/>
        <c:noMultiLvlLbl val="0"/>
      </c:catAx>
      <c:valAx>
        <c:axId val="19442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15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E16-6906-4786-82EB-614B4454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9D1-1E6F-4F06-A2B2-44099EC9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0A5-9162-455B-A62E-63FFC46F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BA9-6442-40EC-A301-60CBF436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CB5-99AD-4B63-B1E5-44B71024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21D-BE80-46C6-BD93-28A1AB90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776-9936-474F-8C66-050E1403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951-43AC-4541-8C1F-9130C681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428-3E5A-438B-A2ED-D3E43CC0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46E-7BEE-4248-A522-1FA9824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2EA-B666-45C6-90E3-CDE5BB89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20A-877D-41AD-BE0A-88ABB8D2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A833F-2607-454E-9339-DF112C4B28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