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62102"/>
        <c:axId val="455474"/>
      </c:barChart>
      <c:catAx>
        <c:axId val="38262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474"/>
        <c:crosses val="autoZero"/>
        <c:auto val="1"/>
        <c:lblAlgn val="ctr"/>
        <c:lblOffset val="100"/>
        <c:noMultiLvlLbl val="0"/>
      </c:catAx>
      <c:valAx>
        <c:axId val="455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62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1F0C-EBB1-43E3-925D-C7D38016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FD8A-385F-4287-BCAA-9CCB22B2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D63-12BB-4805-A719-038DC474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554-C4F3-4978-885F-4B7F06E2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D27-6A86-44D7-B664-02402EB9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ACF-E582-455E-A4A7-68729F75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C11-1082-4B36-B1CD-5A7073D4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F46-CE16-4D75-953E-69F8D0C2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0F7-3E55-463B-9347-C6C22577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B99-850C-4BAC-AC2F-41872994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005-E357-4A37-829B-31367ED0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20C-2B04-4669-BF36-056E8E29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730E2-49EB-4C40-BDD2-6C4EC12FEB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