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21507"/>
        <c:axId val="55152218"/>
      </c:barChart>
      <c:catAx>
        <c:axId val="32121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52218"/>
        <c:crosses val="autoZero"/>
        <c:auto val="1"/>
        <c:lblAlgn val="ctr"/>
        <c:lblOffset val="100"/>
        <c:noMultiLvlLbl val="0"/>
      </c:catAx>
      <c:valAx>
        <c:axId val="55152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21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3A7-78CB-44C7-B01E-8B063E7E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B9-27FF-4A0C-BB3D-B893D0E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02C-EF57-47D0-A006-8637E3D3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FBC-B1C7-4C97-9D58-310AF760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959-360E-4B44-8E19-7135570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158-BA88-449C-A706-C96CD26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EEC-DD5B-4D98-B742-DABBC85C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466-5B6D-48BC-8225-8F1FF30E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D74-06E5-4B5C-9122-888C45A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6D9-B704-46B1-948E-A746447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E0C-E84E-433B-855B-588B245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0DF-8C6D-4983-902F-ECAA7FA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668B3-627B-4701-B750-6B5319A870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