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310617"/>
        <c:axId val="72036135"/>
      </c:barChart>
      <c:catAx>
        <c:axId val="193106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36135"/>
        <c:crosses val="autoZero"/>
        <c:auto val="1"/>
        <c:lblAlgn val="ctr"/>
        <c:lblOffset val="100"/>
        <c:noMultiLvlLbl val="0"/>
      </c:catAx>
      <c:valAx>
        <c:axId val="720361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3106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97B6-82B0-4784-AC5B-2CBE66C0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0ABB-57F4-4DDB-83FF-D09D6D37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3D54-2AB6-4F32-B2BC-72B3E7B2E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3D79-3963-42DC-B858-D67E4B7C7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12F6-DE61-4C72-B6D7-A6AE728B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0214-4CC7-436F-9AB0-01B1F7B4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57FD-4FE5-412A-805C-E186FEC5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EF6D-2EBE-45FC-854C-C12C3F98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40DE-B381-4E77-90AE-E32D784D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E1BC-F9A1-4138-BF36-4758999E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3986-BDDA-4DCC-8D2E-475316B9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D4CC-15A1-478E-BD05-025FEC21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12B24-59DD-4772-B808-5872F50ED1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