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24435"/>
        <c:axId val="83761906"/>
      </c:barChart>
      <c:catAx>
        <c:axId val="81244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61906"/>
        <c:crosses val="autoZero"/>
        <c:auto val="1"/>
        <c:lblAlgn val="ctr"/>
        <c:lblOffset val="100"/>
        <c:noMultiLvlLbl val="0"/>
      </c:catAx>
      <c:valAx>
        <c:axId val="837619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44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E7A6-7593-480D-B92F-E9A39C94E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34E3-78B1-494E-B22C-523B5207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5C85-E297-4788-A260-9DCAD0310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74CA-C841-440A-8CF8-04486B122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594F-2C97-4CA0-A648-2407C5FA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935A-F7FE-4C36-87FE-157FEC47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0F67-7315-4BA1-8950-8C3DCFEA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D972-4B97-4284-810D-7195AD54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8101-756D-46D6-80C9-FE945E1B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18F6-2335-42C4-9B9F-D3AF6739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8EB4-14A9-4020-9E33-77E10500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6196-608E-4099-8109-B93F75A5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CE1E9-7FD6-4184-886F-5D0581E334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