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862765"/>
        <c:axId val="10847590"/>
      </c:barChart>
      <c:catAx>
        <c:axId val="97862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47590"/>
        <c:crosses val="autoZero"/>
        <c:auto val="1"/>
        <c:lblAlgn val="ctr"/>
        <c:lblOffset val="100"/>
        <c:noMultiLvlLbl val="0"/>
      </c:catAx>
      <c:valAx>
        <c:axId val="10847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62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21FE-3D11-42AF-948F-16F949D1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0F0-C4BF-4B0E-B628-A9D1A21F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A4AA-CD5F-47FC-AFCD-4E471E07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A76-F483-4AD8-9BCA-6121E4D2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460C-2525-408B-80B7-ACA08DBF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260-272B-42F0-B164-F5DBC2E2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C3E-D79D-48D3-B382-8FDB6492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170-4F9F-4668-882D-6C85E11B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649-E878-414A-863C-94BF9AF8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89A-2528-4A58-BD11-B771EBFD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7B9-A3AB-46E3-A92C-D013BAB0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E82-3E13-442F-8C8C-BECFC5F6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FB365-A0C5-4FE2-887D-484516BB46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