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972675"/>
        <c:axId val="64642096"/>
      </c:barChart>
      <c:catAx>
        <c:axId val="649726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42096"/>
        <c:crosses val="autoZero"/>
        <c:auto val="1"/>
        <c:lblAlgn val="ctr"/>
        <c:lblOffset val="100"/>
        <c:noMultiLvlLbl val="0"/>
      </c:catAx>
      <c:valAx>
        <c:axId val="64642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726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9F1-C9D2-4A96-8210-E6E3B5FE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511A-18BB-43D5-8E25-8004717B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2473-1193-4CBD-9584-6FF464DA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81E9-D64C-40C1-8A19-D3C41A1A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A594-26CA-4958-98F9-494474D2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0897-E305-4087-9960-7A5A1EAD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5681-E672-4345-946D-10272467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BED6-3B13-4E99-B5AF-3EA47CB7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865-2FCC-4A4E-925B-F8B3ED3D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AF5-4220-4F05-AAB7-91474B0C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08CE-4C7F-43A6-9A19-A622E056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6521-7476-4873-BFEC-A2F898EA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85CF3-5072-4D17-A701-348C7E62CE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