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33435"/>
        <c:axId val="51985102"/>
      </c:barChart>
      <c:catAx>
        <c:axId val="57333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85102"/>
        <c:crosses val="autoZero"/>
        <c:auto val="1"/>
        <c:lblAlgn val="ctr"/>
        <c:lblOffset val="100"/>
        <c:noMultiLvlLbl val="0"/>
      </c:catAx>
      <c:valAx>
        <c:axId val="51985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33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32E-9E10-4D7F-85C8-43A785B1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621-6F43-42B4-88DC-95D55169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708-9F0B-4634-9492-7547300A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4E6-92E5-4BA6-822B-B6BD83A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112-6A07-43B2-BCC8-DB6324EA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352-C694-442D-ADF7-E8FDB817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2E2-503A-4508-8E7C-B797E871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07B-7C8D-4D5E-B6AC-D3DA4591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4D9-CA34-4B23-BF2A-7F16583B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FF1-9034-44CC-82B6-7219BAF7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789-CC06-4CF7-A38E-E81880B3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88F-8D55-4A9B-8B40-CEBCBE4F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C2498-0D5B-4F35-9CE2-13D04A4EF0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