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43547"/>
        <c:axId val="90764943"/>
      </c:barChart>
      <c:catAx>
        <c:axId val="10943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4943"/>
        <c:crosses val="autoZero"/>
        <c:auto val="1"/>
        <c:lblAlgn val="ctr"/>
        <c:lblOffset val="100"/>
        <c:noMultiLvlLbl val="0"/>
      </c:catAx>
      <c:valAx>
        <c:axId val="90764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3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8B3-E9FF-493F-9776-85AD829F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685-C40B-446D-BBE3-3C18325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86C-63B7-433C-BD85-BA1131E1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3A3-632F-4617-88DF-827EE6AB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178-CE8C-4E57-9C70-80B32D3D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A0A-69AA-445B-9697-E9C0ED5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2AA-ACE2-4170-8E40-FBDC8B5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717-436E-4187-B0B0-44235C1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367-AC5A-4CA7-8BE0-94E1C342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31B-0DB0-423F-9BD8-4CFE9A1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F23-7A5D-4268-87EE-1AAD14E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9F7-24E0-4BC9-BA94-0D1E298D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3EF01-E4E7-4B5B-A1C3-90AF4DBCA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