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16642"/>
        <c:axId val="20850103"/>
      </c:barChart>
      <c:catAx>
        <c:axId val="62016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0103"/>
        <c:crosses val="autoZero"/>
        <c:auto val="1"/>
        <c:lblAlgn val="ctr"/>
        <c:lblOffset val="100"/>
        <c:noMultiLvlLbl val="0"/>
      </c:catAx>
      <c:valAx>
        <c:axId val="20850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6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C70-A972-463E-B182-B5822D76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A45-2582-4E79-826C-AFC7A13E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08F-41A5-4C19-90D0-1AB9AA1E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8BF-9ABC-4937-B7DE-CDCF190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7A6-C22D-40D8-8B4D-AD52F98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848-D413-44FF-97EA-9F5BADE1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51C-1A0C-4646-8F22-BDF1912A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BF5-D7AC-4ECB-8453-D869B94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622-2798-4FFB-8832-F40B6A8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D22-196F-4D2C-A78F-41DBD76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6E4-61AC-4330-B567-AFF753D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C98-720C-4B80-ACCD-D6B2750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8D19-9A7D-4A38-8BB6-2B95727EA8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