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73243"/>
        <c:axId val="59060074"/>
      </c:barChart>
      <c:catAx>
        <c:axId val="47073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0074"/>
        <c:crosses val="autoZero"/>
        <c:auto val="1"/>
        <c:lblAlgn val="ctr"/>
        <c:lblOffset val="100"/>
        <c:noMultiLvlLbl val="0"/>
      </c:catAx>
      <c:valAx>
        <c:axId val="59060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73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552-356C-43F9-AB48-9E65D51F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B3E-33C3-4A20-B846-418EF12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B62-8DFA-4A51-BD14-58ADAA4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5E6-AAE1-456B-8A37-E15752F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4FE-2056-4638-AD5A-F242AAA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F47-F4E2-433E-AEAA-457DA561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F98-4C77-4CCB-A42D-EC533E7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84D-3D3F-40FF-9FBC-B1727D7D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FEC-2209-4B4E-A2BC-B6B6C445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D56-EC1C-4939-8F7F-E87206E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7AC-18C1-4EDC-8553-92E1D21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116-C7A4-494E-B6DF-3C25413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BCE8E-F0F7-45B8-828B-371D9805C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