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3281"/>
        <c:axId val="96207420"/>
      </c:barChart>
      <c:catAx>
        <c:axId val="1913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07420"/>
        <c:crosses val="autoZero"/>
        <c:auto val="1"/>
        <c:lblAlgn val="ctr"/>
        <c:lblOffset val="100"/>
        <c:noMultiLvlLbl val="0"/>
      </c:catAx>
      <c:valAx>
        <c:axId val="96207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3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EF9-0A0C-44E6-A5D5-F28124DD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5D3-6729-46A8-B50B-3E58BD41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BA7-C04B-435C-A735-0F5C2C1F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831-07CE-4E00-9787-62775343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49C-9A4E-461B-8C01-E1043AC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4B2-765A-4D3E-AF66-03BB31D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9D5-E7E9-4082-BC33-7D0CDF6C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648-2FF1-4187-83D6-E11BD7DA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511-7A84-4FED-9D0C-46704AE0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971-21F2-4984-8BC2-F53C1E60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643-1F45-43D4-870E-29CD3638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A8D-0BCA-4EE4-9EC0-5F82E9D2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83623-4517-44FB-A2B9-0767C25F7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