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32357"/>
        <c:axId val="45305199"/>
      </c:barChart>
      <c:catAx>
        <c:axId val="88932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05199"/>
        <c:crosses val="autoZero"/>
        <c:auto val="1"/>
        <c:lblAlgn val="ctr"/>
        <c:lblOffset val="100"/>
        <c:noMultiLvlLbl val="0"/>
      </c:catAx>
      <c:valAx>
        <c:axId val="45305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32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8A7-E41F-4649-8D89-8C06F4E0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4EA-3ABA-4A17-9B5D-B3BAFC0E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FD4-61AB-4B81-9F73-E6B07296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8C4-511D-417E-99A9-55B940D7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30F-8B44-47BD-9AC4-012D9679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A30-B933-4E3C-A0D7-40E1DF5A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06D-5251-4E6F-AAED-39D306B7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55E-DCC3-4E88-BB08-1FF858D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F6C-02CE-4424-89F6-FB9DE54A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6D3-2E0E-437B-B0BD-362E3F52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0E9-E069-4E35-ABDA-50925382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236-952C-42DD-BFAC-93A707EA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CA6AE-037D-4326-B141-B35D74FD82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