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35805"/>
        <c:axId val="37872507"/>
      </c:barChart>
      <c:catAx>
        <c:axId val="88435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72507"/>
        <c:crosses val="autoZero"/>
        <c:auto val="1"/>
        <c:lblAlgn val="ctr"/>
        <c:lblOffset val="100"/>
        <c:noMultiLvlLbl val="0"/>
      </c:catAx>
      <c:valAx>
        <c:axId val="378725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35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CC21-0EA5-48C0-8CA5-9F72BD2D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3B18-AA53-46E8-B08C-DF60E621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843B-27CD-424F-B723-52ADF083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DFB-EB22-48EA-83DD-04890433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007-1B73-4A13-8411-A5623CDD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3BC-EF96-4DB7-971D-A89A1102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0197-CFF5-46F1-837C-5C028E4F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B314-9B09-474B-8C66-C0A31AD9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4D2-4B57-44E7-97B6-975AF530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407-6564-4BF7-A3ED-BEC7FA1C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9A41-CBD0-49A3-BF1D-A6349CCD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C33-1996-4E5B-8B55-7F2EAFA2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3848A-3B3C-49FE-8600-A5594C43F8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