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0119"/>
        <c:axId val="7840224"/>
      </c:barChart>
      <c:catAx>
        <c:axId val="1470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224"/>
        <c:crosses val="autoZero"/>
        <c:auto val="1"/>
        <c:lblAlgn val="ctr"/>
        <c:lblOffset val="100"/>
        <c:noMultiLvlLbl val="0"/>
      </c:catAx>
      <c:valAx>
        <c:axId val="7840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A0B-5003-460E-98BF-D53D354A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E87-8E91-4494-88D2-10AF9DC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821-8EB2-4677-93FF-AAC381AA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290-786B-4BE4-B961-107F5371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CE9-3DBE-464C-B916-CADAA8B6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E8E-0D1C-4550-A6E8-DB111C3E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199-A151-4F60-B0FE-77C7ED4C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685-8551-435C-884C-DDF980F0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F1C-B524-4978-816A-5C898EF6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671-D671-4979-8306-4C9ABF3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D63-CA4C-40D4-9FC6-B6BBF2DF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FD0-CFA3-4503-A74E-5CB8A9E7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D0FD0-5FB5-4DC2-9B4A-B1718329AB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