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34913"/>
        <c:axId val="53307316"/>
      </c:barChart>
      <c:catAx>
        <c:axId val="35234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07316"/>
        <c:crosses val="autoZero"/>
        <c:auto val="1"/>
        <c:lblAlgn val="ctr"/>
        <c:lblOffset val="100"/>
        <c:noMultiLvlLbl val="0"/>
      </c:catAx>
      <c:valAx>
        <c:axId val="53307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34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27ED-0D3E-4B67-A58A-A0C375B2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BC7-D2F1-4A34-B97D-BC4A3485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F20-250F-428B-BAA7-46867000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057-E04A-467A-8FDB-D1FDF60C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EF1-A9CA-46FF-B677-4AD3C186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B25-968D-41DC-B235-32D054A6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22D-5FF7-4C05-BA7C-EF2758BA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C811-DA32-417D-95C6-E3CDF46F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9B4-AB64-4C6F-9E84-D856AC6E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DD0-5D85-4E26-A3D0-8E176F43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59FC-B793-4ACF-AC35-36B815CE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57B-4FC9-41BE-A927-9DB60990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2F901-0991-446D-ADAF-C7DE5FB29B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