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26194"/>
        <c:axId val="73536840"/>
      </c:barChart>
      <c:catAx>
        <c:axId val="61326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36840"/>
        <c:crosses val="autoZero"/>
        <c:auto val="1"/>
        <c:lblAlgn val="ctr"/>
        <c:lblOffset val="100"/>
        <c:noMultiLvlLbl val="0"/>
      </c:catAx>
      <c:valAx>
        <c:axId val="73536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26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386-6249-4B00-94D9-B57A05D5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46C-E4FB-413A-AC15-900003AC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503-56A3-4C05-9680-E627FB6C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6CB-7AAE-4322-B294-08E5C6D3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5B5-5721-479C-8FAD-35F192B5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E5A-07A6-4607-A6E3-50955F26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514-53C5-4D9D-B5BF-751F2783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20B-0AF5-420F-8098-7A45A577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F7D-EF33-49F0-B3D2-8C75A382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775-8877-4DCB-A623-2D5DA15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9D0-B1F4-4DF5-B72A-69C7C694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098-3BE5-464B-98CC-BDE7166A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BD2B3-C698-42A6-AD3D-56E84E385D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