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45280"/>
        <c:axId val="51579531"/>
      </c:barChart>
      <c:catAx>
        <c:axId val="43545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79531"/>
        <c:crosses val="autoZero"/>
        <c:auto val="1"/>
        <c:lblAlgn val="ctr"/>
        <c:lblOffset val="100"/>
        <c:noMultiLvlLbl val="0"/>
      </c:catAx>
      <c:valAx>
        <c:axId val="51579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45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9CB-A4C3-43FB-8B25-5CEAF703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391-E1B4-434D-95C7-53989493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E5A-E175-4F4D-924D-DDB99EF0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7E9-B293-4801-9AAE-0198C6C9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45-693B-425E-993B-5ADC3DB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A07-97EF-4D61-928D-E1B6D19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25D-B56E-4E12-8DF9-AF7C53BB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415-20B4-4DFB-8E5E-FD60541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B29-3B08-4606-9FF3-67F35EFB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ADF-FE20-4067-B0D8-69F53DAB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553-CE95-4559-BA8F-CD7B815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47B-9B1E-47E0-83C1-BE3F30C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4F42-8E2A-4DD3-A3B8-346BC24F6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