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379"/>
        <c:axId val="29093518"/>
      </c:barChart>
      <c:catAx>
        <c:axId val="382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3518"/>
        <c:crosses val="autoZero"/>
        <c:auto val="1"/>
        <c:lblAlgn val="ctr"/>
        <c:lblOffset val="100"/>
        <c:noMultiLvlLbl val="0"/>
      </c:catAx>
      <c:valAx>
        <c:axId val="2909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B24-F236-48F4-8EA2-614C6483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858-1542-4D14-B865-04B21E2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85B-91FA-4D6B-9EFC-BAFB7CFA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1C4-9C23-4085-A4E7-DB50400E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037-2E50-41DE-AF8A-F95580A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4FC-5799-4B41-8159-DA37F42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7B2-870A-48E5-892B-08F028D7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715-6A0F-4158-9649-1B7D625D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4AE-1B96-413B-BB7E-23D393A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C9D-F4DE-40CF-BA54-19D7327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24D-EE04-4651-9C9F-58575D4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B64-AFF5-407A-9F84-765B4D7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F971E-B800-41D4-8430-C8F97F9179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