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86753"/>
        <c:axId val="25753847"/>
      </c:barChart>
      <c:catAx>
        <c:axId val="17686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53847"/>
        <c:crosses val="autoZero"/>
        <c:auto val="1"/>
        <c:lblAlgn val="ctr"/>
        <c:lblOffset val="100"/>
        <c:noMultiLvlLbl val="0"/>
      </c:catAx>
      <c:valAx>
        <c:axId val="25753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86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1AA-7E45-4151-BC6C-D4514566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F9F-03E2-40DC-9847-0D223027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D21-CDCB-4FCA-A1D3-5F5090E1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C73-6034-4F9C-B3B3-098D2F2E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A78-B5CA-4673-A069-F8180F21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2BA-D282-4E8C-8D26-D7C01912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0A5-B651-4E44-AA95-3AAB0D64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FB6-A75A-4A92-918E-F377AA7C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C78-3F7C-4586-AD2A-9FC82616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7A7-469B-4A61-A985-FEF64B75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AA8-C93F-4375-85F7-9F01F83C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FA4-EC24-4335-96AB-81148A77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F5D5F-3295-4EF4-BBB5-7353D0DD3D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