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160953"/>
        <c:axId val="90546047"/>
      </c:barChart>
      <c:catAx>
        <c:axId val="551609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46047"/>
        <c:crosses val="autoZero"/>
        <c:auto val="1"/>
        <c:lblAlgn val="ctr"/>
        <c:lblOffset val="100"/>
        <c:noMultiLvlLbl val="0"/>
      </c:catAx>
      <c:valAx>
        <c:axId val="905460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609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A180-3ED7-4F3B-9C01-B5CB9F8B6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D12B-9179-418B-A400-B045620A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8D44-DB8A-49F5-ADC8-6B8807B89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3937-73CD-45F5-80E7-CBDEA8584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2B63-D0EE-47CC-9350-0FFA9736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AA7F-2185-46D6-BB73-B19F3B6E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53DE-BD36-43FD-94BC-F9E9E8A4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1FB7-ADC2-49B4-A0B7-298E5446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7A18-1F6F-4ED2-AE6E-D42DEFCB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B687-95AD-4983-AB0D-C7172942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9C54-7151-4251-BF8C-94CC06BB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F6D7-0AB5-4105-8735-5A168434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7FD85-40D0-45C7-A2E7-292342897C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